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4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 type="sldNum" idx="4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B34E4C-B622-4893-800E-8E5B8EF2F6B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874181FC-1FE3-4C60-B8E9-E0328DF9051D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D57-ED28-43F6-A199-5245D38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08D-5587-4698-A096-56BBC566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0F702-AB26-492B-A644-EF10308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0FD5-5D00-47CF-961E-86A02E74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04E5-6515-43C7-937E-B495E0BA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C09E0-284F-4F28-A749-AAB1DB9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A634-EBFF-4E32-8B71-1A23B47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895A8-7624-47E1-83A5-59ABEF5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99A1-BF9A-45DB-9D4D-33B78FDB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CDFE-D44C-46A4-B2F9-1718D209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3C7D-34BC-48B3-A8B3-5042D74C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9E7ED-E0AA-44E3-B87F-A6037342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782-9AA1-4190-BAD3-EB5985E6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630F-BC31-4EC6-86EF-B53E88A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48657-E032-4BFE-B761-945CA49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ABA4F-5C03-43E5-80C8-5A96BEA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5C25-8E9F-43DE-AB46-EDD1010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EE7A-415E-4BDA-9F70-EA57D6F7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B373C-5583-4197-AD25-FC7682F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2359-F16E-4610-B419-05A66C3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8E013-DC14-45D0-A9DE-C155A4B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87D5-46B6-49FE-B797-2974614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8FED8-DBFA-41DB-9958-6D76F73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9C0-C9BE-4878-9AC7-9077A2DF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6053C-A440-4335-AF51-E893E510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8E218-BC92-462F-93B8-26C6F8EF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C5EDB-1714-4D60-BECF-B92B874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99EDD-7997-48A8-8BC1-B8DEDB2D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AFA6E-F929-462E-9B13-65573AB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A2F94-7372-46FD-9325-3F87C5E8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5A3D3-2F3B-4657-96BA-83B8237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E389-D4BA-4218-AC30-3BAD864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A3A9-CAE3-495B-A10C-D4351B9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AD85-EB35-4C84-82BC-820FED5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DC6-35DA-4E32-A3E4-0B3F4D62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F7FDD-752C-4922-B368-6C90D4A6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552CA-B366-46C7-AFCC-8E5D265E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044BC-2B70-46CF-A844-06412934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3AFF7-572F-47F6-848A-72B3CA49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EAF2E-9890-4314-A07D-1F2C999F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3A78E-CE34-4B8A-8669-34DDCC78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C58D-F9D6-442B-9885-5FB449F2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54C2-32A7-4A63-A1B8-40EC93E1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5B02-5F53-4B35-993E-1C38977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3241F-B6A6-45A4-8813-47FD158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20F1-E27E-42CF-90B9-87B3783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694D-480E-44E7-8D45-6182C0A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52EB-7A52-449B-A416-0C57241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FF7F-E318-4B9E-B81A-2A7D871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53BEB-7E77-4865-A045-298FF996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7D180-0E28-4BA7-9EBD-3C7B1EFE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83B02-2739-4E5C-9753-8BD36BFC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9C8E-A2AA-48E8-A655-AD96879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27501-AEAD-4932-BC00-DB197A5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27674-32ED-41ED-B052-02CAE2C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38CD5-A8ED-45C2-98AD-FD936FF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2C3-F27A-4117-8E98-9262281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93679-0C84-471B-8F87-FF2E23C6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2C8B8-DE5E-47D3-8020-45F9AFD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7929D-459D-4BA2-9572-0CE5F19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6D5D9-91AB-4B96-83C8-B6D2CF9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E81BE-31FE-4B12-BEA2-E4EFFB60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D52FC-6FAD-4DF8-AD4B-07DDDF56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8106B-30F8-40B4-9FD9-8E3CC1BF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27523-A236-4069-B05E-00F5AEF7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B81A6-9F5B-4389-9FF0-0F48EF70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36D37-5666-411E-9062-1B2C4EF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1AE6-F2A5-4345-9B32-7CA7D20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F37F0-3E5D-4911-BCA2-35486B0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B6832-42BE-44CB-8A06-8727AB07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05EEC-E09B-44EC-B78A-EBB577E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987D4-6FBC-4F68-BDA9-41444FE5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C0556-9417-42FD-AEE3-DE634AE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BE9EE-233D-4EDE-9F79-9B5D283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FD542-226E-4876-BAB8-446D123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3689A-398C-47BE-95E9-26B21E19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A60D0-C12B-4B8C-81CB-1092B3F2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87808-78ED-4C66-A6EF-07E00EA7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FF54-0442-4C07-B2F4-ABA724CE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8E486-5DBF-4045-8654-6FFC838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3C742-5B92-4990-B0FE-CA8E7A75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A2107-7C5D-4FF8-AD95-7829915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DC298-C595-4B71-A23F-0F109A7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145EB-D13D-40F0-8A72-09AD38FB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2F711-6C81-4571-BE6F-CF79B90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5738A-772E-47C2-8E38-26C32EC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9C04C-2144-4200-BDA9-E43CEA1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6E6DC-C2B8-41D0-8F64-F29A0069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6FCC3-7309-4392-9AD1-C2F6578B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8B98-758B-4DD4-8400-2FB8426E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10804-0338-4F36-89D9-1EA3AE71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BD4C-B99E-4AA9-93AC-E63D0A4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C01-3511-4DC2-9527-AF9C105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BF39-B3EB-42CB-B369-E264228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8AF-CAED-455D-9B90-5A7F070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1FF0-E07D-447D-96B7-E082070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6364-0798-4EA9-995A-F41A00F4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83FD-E424-4BB2-BE79-FFDDA370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BE40-8029-4218-BCCA-EBB9819D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5812-B5DB-4D0C-ACFB-F440D1E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87B5-1BFC-4278-A77A-3AF25E9A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8262-364E-482D-AC23-AC6FD39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5613-51DE-405D-AC35-B13FA7F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C0B-52B0-428F-9FC4-66BD428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45A7-096C-4998-8A66-8EBFFDBB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05AF-F5E4-4F28-A59D-89796FB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5E4A-6AC7-4A0D-B61A-298EF81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D4D7-0477-4419-8A4C-837B384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951E-A8AC-4948-9628-A7BAB241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4C05-10FE-45D2-80FA-1E1179FA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2A2A-3DC4-44DA-8EED-A30C08C4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5F2-54BD-4015-B539-2F888852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B781-4F53-479A-9FC5-9526FD31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086-506B-4E9A-A153-AE14332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196D-1B37-4297-A575-3A4FFA8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1E9E-2752-4EE7-80B0-1F39E871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D88F-E683-4FE8-B0C4-80AC924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4E10-C65A-4D5E-9CC1-3495307C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7535-D0FA-4C93-AFE6-31FF1CC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AC76-3E25-4C0E-B681-11A6D47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798A-3C13-4BF2-934A-CD21F08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2DCE-369E-49A6-8581-D144DD3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7C78-1513-44E2-BF71-D8A7E13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2BA4-FB3B-47A1-BE87-D31A922D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69B-4DE8-4BA0-BD8A-BA7AE78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11FF-F248-4C2B-AC65-3A141D88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4E71-7590-4E80-8CEB-55E65A1D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204E-8FBA-479B-B43E-B70B86E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CDDE-BF75-4357-A247-A531267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73E7-5FC2-4950-AFE7-B0DAB6E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ADCC-A8B9-48E6-B27D-0DAA3CB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D49D-A490-456A-B8C6-90E683F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FB79-D58F-4454-8349-0A57D62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14C8-15D7-45FB-B6F8-DADB772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D5F8-7CF4-4DA9-9E92-494620B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3AB-13A1-4792-8AC8-CD04DE1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7E07-F5D5-44A5-8C3F-36DCC80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79E8-8392-4DC0-80DD-B388FABA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2562-3D30-4847-AF40-F50CB49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367E-574A-459F-99FD-15F0D3D1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63DD-6FE8-412D-A54D-A903251A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46359-349F-4ECE-B20C-F01A378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CD78-D24D-4042-9F0A-F5B8C43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1743-69DD-4259-926B-3E418D5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60AF-5229-4C3F-A898-9A8C6FBE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C9F2-9257-420C-8CB4-98AD2B5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07C-2206-4DA3-9438-A3FF93C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8BE7-9C76-4096-AB47-D566F01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AD50-8538-4809-A987-AF9546A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D154-5CDF-4A39-B5EC-E8D39D6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88C22-7AB1-4FF1-A0ED-71D040C0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0E2B-860B-4492-8D45-36131CDA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0E64E-D7E2-4C4B-9749-4374FD5C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B28F-7803-423B-9345-C7DE98A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01B0-FB28-4A95-BB01-3D2FEED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FC37-153D-426E-91FC-4ED1BD1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8171-7F52-4679-9E8C-223F0A3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BF3-990C-4B51-B4A2-D79B66B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C577-5762-45A6-A188-2454C46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3CB6-FA36-4725-A604-4636FEA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48BC3-93F1-4E55-B186-700011B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383E-D986-4376-BA16-5300A39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5185-7BA9-40FE-BDB2-03A20DA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2919-CB81-44CE-817B-E603CF3A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3B57-92A2-4902-B32B-5C1B8B81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6FBF-E7AE-439F-A250-C6D7A075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3B55-64AD-4C95-B77A-80985F09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E145E-77BE-47FD-9C58-7C00A431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A72A-4213-47EB-A2A3-4F133C56E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01F-1019-4067-90E1-25F934297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527-F8B9-4303-9A97-E97610AEE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59D7-798B-48C9-AA56-7100677A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91D-F200-4151-B62C-C605E01B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09ED-9E1A-4CD1-9FA6-329A86D36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9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0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C5A2-101C-4225-B950-D1B8F6C8507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4653-485A-4806-B1C7-A7F14D79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F47-0E68-490D-B941-5F2A9ED3EEA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060B-1627-440C-BA15-3FAB69ED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030-07B8-437F-879E-CEBF706C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5C8-FA6D-45D7-AFEE-0C3B235A5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5273-C2EF-4954-A520-994BDEC3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4186-ACFC-4949-8378-DBD08097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omuni di Calci - Cascina- Pisa – San Giuliano Terme – Vecchiano - Vicopisan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9" name="Picture 4" descr="puzzle"/>
          <p:cNvPicPr/>
          <p:nvPr/>
        </p:nvPicPr>
        <p:blipFill>
          <a:blip r:embed="rId1"/>
          <a:stretch/>
        </p:blipFill>
        <p:spPr>
          <a:xfrm>
            <a:off x="838080" y="1600200"/>
            <a:ext cx="1067040" cy="91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0" name="WordArt 5"/>
          <p:cNvSpPr txBox="1"/>
          <p:nvPr/>
        </p:nvSpPr>
        <p:spPr>
          <a:xfrm>
            <a:off x="1905120" y="1828800"/>
            <a:ext cx="6781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70c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900" spc="1" strike="noStrike">
                <a:ln w="9360">
                  <a:solidFill>
                    <a:srgbClr val="0070c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onferenza dei Sindaci  per l'educativo - Zona Pisana </a:t>
            </a:r>
            <a:endParaRPr b="0" lang="en-US" sz="900" spc="1" strike="noStrike">
              <a:ln w="9360">
                <a:solidFill>
                  <a:srgbClr val="0070c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48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PRINCIPALI MODIFICHE AL REGOLAMENTO 47/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763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tituzione del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issione multidisciplinare unica zona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autorizzazione e accreditamento dei servizi  &gt; rilascio di un parere OBBLIGATORIO E NON VINCOLA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tituzione del coordinamento pedagogico zonale 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ordinamento del Sistema dei servizi 0-3 e 0-6 ann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 base zonale che INTEGRI FUNZIONI PEDAGOGICHE E FUNZIONI GEST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48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COMMISSIONE MULTIDISCIPLIN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763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54 Commissione tecnica multi-professionale z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.  Presso ogni Zona educativa o ambito viene istituita una Commissione tecnica multi-professionale nominata dalla Conferenza educativa per l’Istruzione, che ne regola il funzionamento.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.  La commissione è composta almeno 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) un referente in rappresentanza delle strutture di coordinamento zonale, con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petenz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dagogiche, che la coordina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) un referente dell’Azienda sanitaria locale, in rappresentanza dei servizi sanitari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petenti sulle materie oggetto di verifica in sede ai autorizzazione al funzionamento dei servizi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ducativi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) un referente delle strutture di direzione e coordinamento pedagogico dei servizi per la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rima infanzia del Comune dove ha sede il servizio che richiede l’autorizzazione.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.  Oltre allo studio e alla verifica dei documenti allegati alla domanda di autorizzazione è obbligatoria una visita da parte della Commissione tecnica multi-professionale zonale al servizio per il quale si richiede l’autorizzazion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.  La Commissione tecnica multi-professionale zonale chiuderà l’istruttoria con un parere motivato obbligatorio di rilascio dell’autorizzazione, di autorizzazione condizionata o di negazione dell’autorizzazion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.  La Commissione tecnica multi-professionale zonale esprime parere obbligatorio sulla verifica dei requisiti svolta sui servizi accreditati, di cui al successivo comma 5 art. 5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48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ENTO DI AUTORIZZ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763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733320" y="1752480"/>
            <a:ext cx="7677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RDINAMENTO PEDAGOGICO Z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6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irezione e coordinamento pedagogico dei serviz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.  Nell'ambito degli orientamenti progettuali dei soggetti titolari e gestori dei servizi, le funzioni di direzione gestionale e di coordinamento pedagogico rappresentano fondamentale elemento per garantire coerenza e continuità degli interventi sul piano educativo e omogeneità ed efficienza sul piano organizzativo e gestiona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.  Tali organismi di coordinamento – comunali e/o di ambito zonale – perseguono, nella prospettiva della continuità educativa “zerosei” e nel rispetto dell'autonomia gestionale dei singoli servizi i seguenti obbiettivi principal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) sostenere le funzioni di programmazione dei Comuni relative ai servizi per l’infanzia a livello comunale e di ambito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) promuovere la formazione permanente di responsabili e coordinatori pedagogici dei servizi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) partecipare alle attività di regolamentazione e controllo del sistema territoriale dei servizi anche    mediante il coinvolgimento nella realizzazione dei procedimenti di autorizzazione e accreditamento, nonché nell'esercizio delle funzioni di vigilanza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) supportare e promuovere l'innovazione, la sperimentazione e la qualificazione dei servizi,  anche attraverso lo scambio e il confronto fra le esperienz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)promuovere l'elaborazione di forme di regolamentazione dei criteri d'accesso ai servizi e dei sistemi tariffari.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9817200" y="2521080"/>
            <a:ext cx="77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6"/>
          <p:cNvSpPr/>
          <p:nvPr/>
        </p:nvSpPr>
        <p:spPr>
          <a:xfrm>
            <a:off x="3021120" y="838080"/>
            <a:ext cx="365760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3076560" y="91440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GRETERIA TECNIC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AutoShape 8"/>
          <p:cNvSpPr/>
          <p:nvPr/>
        </p:nvSpPr>
        <p:spPr>
          <a:xfrm>
            <a:off x="1760400" y="1523880"/>
            <a:ext cx="5943600" cy="914400"/>
          </a:xfrm>
          <a:prstGeom prst="roundRect">
            <a:avLst>
              <a:gd name="adj" fmla="val 2228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905120" y="1752480"/>
            <a:ext cx="5662440" cy="398520"/>
            <a:chOff x="1905120" y="1752480"/>
            <a:chExt cx="5662440" cy="398520"/>
          </a:xfrm>
        </p:grpSpPr>
        <p:sp>
          <p:nvSpPr>
            <p:cNvPr id="715" name="Text Box 15"/>
            <p:cNvSpPr/>
            <p:nvPr/>
          </p:nvSpPr>
          <p:spPr>
            <a:xfrm>
              <a:off x="1905120" y="184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CALCI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Text Box 16"/>
            <p:cNvSpPr/>
            <p:nvPr/>
          </p:nvSpPr>
          <p:spPr>
            <a:xfrm>
              <a:off x="2819520" y="18428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CASCINA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3809880" y="18428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PISA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5486400" y="1860480"/>
              <a:ext cx="106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VECCHIAN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Text Box 19"/>
            <p:cNvSpPr/>
            <p:nvPr/>
          </p:nvSpPr>
          <p:spPr>
            <a:xfrm>
              <a:off x="4495680" y="1844640"/>
              <a:ext cx="109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VICOPISAN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20"/>
            <p:cNvSpPr/>
            <p:nvPr/>
          </p:nvSpPr>
          <p:spPr>
            <a:xfrm>
              <a:off x="6400800" y="1752480"/>
              <a:ext cx="1166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SAN GIULIANO TERM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AutoShape 21"/>
          <p:cNvSpPr/>
          <p:nvPr/>
        </p:nvSpPr>
        <p:spPr>
          <a:xfrm>
            <a:off x="2514600" y="3367080"/>
            <a:ext cx="4191120" cy="7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Oval 22"/>
          <p:cNvSpPr/>
          <p:nvPr/>
        </p:nvSpPr>
        <p:spPr>
          <a:xfrm>
            <a:off x="2857680" y="3657600"/>
            <a:ext cx="4950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Oval 23"/>
          <p:cNvSpPr/>
          <p:nvPr/>
        </p:nvSpPr>
        <p:spPr>
          <a:xfrm>
            <a:off x="3808440" y="3670200"/>
            <a:ext cx="458640" cy="36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Oval 24"/>
          <p:cNvSpPr/>
          <p:nvPr/>
        </p:nvSpPr>
        <p:spPr>
          <a:xfrm>
            <a:off x="4700520" y="3657600"/>
            <a:ext cx="4809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AutoShape 25"/>
          <p:cNvSpPr/>
          <p:nvPr/>
        </p:nvSpPr>
        <p:spPr>
          <a:xfrm>
            <a:off x="1219320" y="4229280"/>
            <a:ext cx="70866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2438280" y="33526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RAPPRESENTANTI DEI SOGGETTI PRIVATI TITOLARI E/O GESTO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Text Box 40"/>
          <p:cNvSpPr/>
          <p:nvPr/>
        </p:nvSpPr>
        <p:spPr>
          <a:xfrm>
            <a:off x="826920" y="4221000"/>
            <a:ext cx="74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COORDINATORI PEDAGOGICIDEI SINGOLI PUNTI DI EROGAZIONE DEL SERVIZ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Text Box 39"/>
          <p:cNvSpPr/>
          <p:nvPr/>
        </p:nvSpPr>
        <p:spPr>
          <a:xfrm>
            <a:off x="1905120" y="15238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REFERENTI DEI SERVIZI EDUCATIVI DEI COMUNI/COORDINATORI PEDAGOGICI COMUNA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CasellaDiTesto 2"/>
          <p:cNvSpPr/>
          <p:nvPr/>
        </p:nvSpPr>
        <p:spPr>
          <a:xfrm>
            <a:off x="1335960" y="304920"/>
            <a:ext cx="65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SISTEMA INTEGRATO DI COORDINAMENTO PEDAGOG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 GESTIONALE DEI SERVIZI EDUCATIVI 0/3 ANNI - ZONA PIS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981080" y="2057400"/>
            <a:ext cx="5173920" cy="380880"/>
            <a:chOff x="1981080" y="2057400"/>
            <a:chExt cx="5173920" cy="380880"/>
          </a:xfrm>
        </p:grpSpPr>
        <p:sp>
          <p:nvSpPr>
            <p:cNvPr id="731" name="Oval 9"/>
            <p:cNvSpPr/>
            <p:nvPr/>
          </p:nvSpPr>
          <p:spPr>
            <a:xfrm>
              <a:off x="198108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Oval 9"/>
            <p:cNvSpPr/>
            <p:nvPr/>
          </p:nvSpPr>
          <p:spPr>
            <a:xfrm>
              <a:off x="289548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Oval 9"/>
            <p:cNvSpPr/>
            <p:nvPr/>
          </p:nvSpPr>
          <p:spPr>
            <a:xfrm>
              <a:off x="381780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Oval 9"/>
            <p:cNvSpPr/>
            <p:nvPr/>
          </p:nvSpPr>
          <p:spPr>
            <a:xfrm>
              <a:off x="472428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Oval 9"/>
            <p:cNvSpPr/>
            <p:nvPr/>
          </p:nvSpPr>
          <p:spPr>
            <a:xfrm>
              <a:off x="579132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Oval 9"/>
            <p:cNvSpPr/>
            <p:nvPr/>
          </p:nvSpPr>
          <p:spPr>
            <a:xfrm>
              <a:off x="6705720" y="2057400"/>
              <a:ext cx="4492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7" name="AutoShape 25"/>
          <p:cNvSpPr/>
          <p:nvPr/>
        </p:nvSpPr>
        <p:spPr>
          <a:xfrm>
            <a:off x="2362320" y="2590920"/>
            <a:ext cx="4724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AutoShape 25"/>
          <p:cNvSpPr/>
          <p:nvPr/>
        </p:nvSpPr>
        <p:spPr>
          <a:xfrm>
            <a:off x="1523880" y="5029200"/>
            <a:ext cx="65534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9"/>
          <p:cNvSpPr/>
          <p:nvPr/>
        </p:nvSpPr>
        <p:spPr>
          <a:xfrm>
            <a:off x="2286000" y="2590920"/>
            <a:ext cx="52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REFERENTI TIPOLOGIA DI TITOLARITA’ E GESTIONE DEI SERVIZ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Oval 24"/>
          <p:cNvSpPr/>
          <p:nvPr/>
        </p:nvSpPr>
        <p:spPr>
          <a:xfrm>
            <a:off x="5715000" y="3657600"/>
            <a:ext cx="4809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287360" y="4545000"/>
            <a:ext cx="3436920" cy="331920"/>
            <a:chOff x="1287360" y="4545000"/>
            <a:chExt cx="3436920" cy="331920"/>
          </a:xfrm>
        </p:grpSpPr>
        <p:sp>
          <p:nvSpPr>
            <p:cNvPr id="742" name="Oval 27"/>
            <p:cNvSpPr/>
            <p:nvPr/>
          </p:nvSpPr>
          <p:spPr>
            <a:xfrm>
              <a:off x="1287360" y="4572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Oval 28"/>
            <p:cNvSpPr/>
            <p:nvPr/>
          </p:nvSpPr>
          <p:spPr>
            <a:xfrm>
              <a:off x="1668240" y="456264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Oval 29"/>
            <p:cNvSpPr/>
            <p:nvPr/>
          </p:nvSpPr>
          <p:spPr>
            <a:xfrm>
              <a:off x="2049480" y="4572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Oval 30"/>
            <p:cNvSpPr/>
            <p:nvPr/>
          </p:nvSpPr>
          <p:spPr>
            <a:xfrm>
              <a:off x="2430360" y="455616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Oval 31"/>
            <p:cNvSpPr/>
            <p:nvPr/>
          </p:nvSpPr>
          <p:spPr>
            <a:xfrm>
              <a:off x="2811240" y="455616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Oval 32"/>
            <p:cNvSpPr/>
            <p:nvPr/>
          </p:nvSpPr>
          <p:spPr>
            <a:xfrm>
              <a:off x="3192480" y="4545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3573360" y="455616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Oval 34"/>
            <p:cNvSpPr/>
            <p:nvPr/>
          </p:nvSpPr>
          <p:spPr>
            <a:xfrm>
              <a:off x="3954240" y="455616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Oval 35"/>
            <p:cNvSpPr/>
            <p:nvPr/>
          </p:nvSpPr>
          <p:spPr>
            <a:xfrm>
              <a:off x="4335480" y="457848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716360" y="4545000"/>
            <a:ext cx="3436920" cy="331920"/>
            <a:chOff x="4716360" y="4545000"/>
            <a:chExt cx="3436920" cy="331920"/>
          </a:xfrm>
        </p:grpSpPr>
        <p:sp>
          <p:nvSpPr>
            <p:cNvPr id="752" name="Oval 27"/>
            <p:cNvSpPr/>
            <p:nvPr/>
          </p:nvSpPr>
          <p:spPr>
            <a:xfrm>
              <a:off x="4716360" y="4572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Oval 28"/>
            <p:cNvSpPr/>
            <p:nvPr/>
          </p:nvSpPr>
          <p:spPr>
            <a:xfrm>
              <a:off x="5097240" y="456264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Oval 29"/>
            <p:cNvSpPr/>
            <p:nvPr/>
          </p:nvSpPr>
          <p:spPr>
            <a:xfrm>
              <a:off x="5478480" y="4572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Oval 30"/>
            <p:cNvSpPr/>
            <p:nvPr/>
          </p:nvSpPr>
          <p:spPr>
            <a:xfrm>
              <a:off x="5859360" y="455616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Oval 31"/>
            <p:cNvSpPr/>
            <p:nvPr/>
          </p:nvSpPr>
          <p:spPr>
            <a:xfrm>
              <a:off x="6240240" y="455616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Oval 32"/>
            <p:cNvSpPr/>
            <p:nvPr/>
          </p:nvSpPr>
          <p:spPr>
            <a:xfrm>
              <a:off x="6621480" y="454500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Oval 33"/>
            <p:cNvSpPr/>
            <p:nvPr/>
          </p:nvSpPr>
          <p:spPr>
            <a:xfrm>
              <a:off x="7002360" y="455616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34"/>
            <p:cNvSpPr/>
            <p:nvPr/>
          </p:nvSpPr>
          <p:spPr>
            <a:xfrm>
              <a:off x="7383240" y="4556160"/>
              <a:ext cx="3891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35"/>
            <p:cNvSpPr/>
            <p:nvPr/>
          </p:nvSpPr>
          <p:spPr>
            <a:xfrm>
              <a:off x="7764480" y="4578480"/>
              <a:ext cx="38880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1" name="Oval 27"/>
          <p:cNvSpPr/>
          <p:nvPr/>
        </p:nvSpPr>
        <p:spPr>
          <a:xfrm>
            <a:off x="2971800" y="284652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Oval 28"/>
          <p:cNvSpPr/>
          <p:nvPr/>
        </p:nvSpPr>
        <p:spPr>
          <a:xfrm>
            <a:off x="3352680" y="2836800"/>
            <a:ext cx="38916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Oval 29"/>
          <p:cNvSpPr/>
          <p:nvPr/>
        </p:nvSpPr>
        <p:spPr>
          <a:xfrm>
            <a:off x="3733920" y="284652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Oval 30"/>
          <p:cNvSpPr/>
          <p:nvPr/>
        </p:nvSpPr>
        <p:spPr>
          <a:xfrm>
            <a:off x="4114800" y="283068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31"/>
          <p:cNvSpPr/>
          <p:nvPr/>
        </p:nvSpPr>
        <p:spPr>
          <a:xfrm>
            <a:off x="4495680" y="2830680"/>
            <a:ext cx="38916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Oval 32"/>
          <p:cNvSpPr/>
          <p:nvPr/>
        </p:nvSpPr>
        <p:spPr>
          <a:xfrm>
            <a:off x="4876920" y="281952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Oval 33"/>
          <p:cNvSpPr/>
          <p:nvPr/>
        </p:nvSpPr>
        <p:spPr>
          <a:xfrm>
            <a:off x="5257800" y="283068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Oval 34"/>
          <p:cNvSpPr/>
          <p:nvPr/>
        </p:nvSpPr>
        <p:spPr>
          <a:xfrm>
            <a:off x="5638680" y="2830680"/>
            <a:ext cx="38916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6019920" y="285264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Oval 35"/>
          <p:cNvSpPr/>
          <p:nvPr/>
        </p:nvSpPr>
        <p:spPr>
          <a:xfrm>
            <a:off x="6400800" y="282564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Oval 35"/>
          <p:cNvSpPr/>
          <p:nvPr/>
        </p:nvSpPr>
        <p:spPr>
          <a:xfrm>
            <a:off x="2590920" y="2825640"/>
            <a:ext cx="388800" cy="29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40"/>
          <p:cNvSpPr/>
          <p:nvPr/>
        </p:nvSpPr>
        <p:spPr>
          <a:xfrm>
            <a:off x="979560" y="4983120"/>
            <a:ext cx="748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REFERENTI DEI 52 PUNTI DI EROGAZIONE DEL SERVIZ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Oval 38"/>
          <p:cNvSpPr/>
          <p:nvPr/>
        </p:nvSpPr>
        <p:spPr>
          <a:xfrm>
            <a:off x="17524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Oval 38"/>
          <p:cNvSpPr/>
          <p:nvPr/>
        </p:nvSpPr>
        <p:spPr>
          <a:xfrm>
            <a:off x="19051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Oval 38"/>
          <p:cNvSpPr/>
          <p:nvPr/>
        </p:nvSpPr>
        <p:spPr>
          <a:xfrm>
            <a:off x="20574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Oval 38"/>
          <p:cNvSpPr/>
          <p:nvPr/>
        </p:nvSpPr>
        <p:spPr>
          <a:xfrm>
            <a:off x="28195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Oval 38"/>
          <p:cNvSpPr/>
          <p:nvPr/>
        </p:nvSpPr>
        <p:spPr>
          <a:xfrm>
            <a:off x="26668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Oval 38"/>
          <p:cNvSpPr/>
          <p:nvPr/>
        </p:nvSpPr>
        <p:spPr>
          <a:xfrm>
            <a:off x="25146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Oval 38"/>
          <p:cNvSpPr/>
          <p:nvPr/>
        </p:nvSpPr>
        <p:spPr>
          <a:xfrm>
            <a:off x="23623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Oval 38"/>
          <p:cNvSpPr/>
          <p:nvPr/>
        </p:nvSpPr>
        <p:spPr>
          <a:xfrm>
            <a:off x="22096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Oval 38"/>
          <p:cNvSpPr/>
          <p:nvPr/>
        </p:nvSpPr>
        <p:spPr>
          <a:xfrm>
            <a:off x="29718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Oval 38"/>
          <p:cNvSpPr/>
          <p:nvPr/>
        </p:nvSpPr>
        <p:spPr>
          <a:xfrm>
            <a:off x="37339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Oval 38"/>
          <p:cNvSpPr/>
          <p:nvPr/>
        </p:nvSpPr>
        <p:spPr>
          <a:xfrm>
            <a:off x="35812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Oval 38"/>
          <p:cNvSpPr/>
          <p:nvPr/>
        </p:nvSpPr>
        <p:spPr>
          <a:xfrm>
            <a:off x="34290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Oval 38"/>
          <p:cNvSpPr/>
          <p:nvPr/>
        </p:nvSpPr>
        <p:spPr>
          <a:xfrm>
            <a:off x="31240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Oval 38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Oval 38"/>
          <p:cNvSpPr/>
          <p:nvPr/>
        </p:nvSpPr>
        <p:spPr>
          <a:xfrm>
            <a:off x="46483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38"/>
          <p:cNvSpPr/>
          <p:nvPr/>
        </p:nvSpPr>
        <p:spPr>
          <a:xfrm>
            <a:off x="44956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Oval 38"/>
          <p:cNvSpPr/>
          <p:nvPr/>
        </p:nvSpPr>
        <p:spPr>
          <a:xfrm>
            <a:off x="43434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Oval 38"/>
          <p:cNvSpPr/>
          <p:nvPr/>
        </p:nvSpPr>
        <p:spPr>
          <a:xfrm>
            <a:off x="40384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Oval 38"/>
          <p:cNvSpPr/>
          <p:nvPr/>
        </p:nvSpPr>
        <p:spPr>
          <a:xfrm>
            <a:off x="48006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Oval 38"/>
          <p:cNvSpPr/>
          <p:nvPr/>
        </p:nvSpPr>
        <p:spPr>
          <a:xfrm>
            <a:off x="55627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Oval 38"/>
          <p:cNvSpPr/>
          <p:nvPr/>
        </p:nvSpPr>
        <p:spPr>
          <a:xfrm>
            <a:off x="54100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Oval 38"/>
          <p:cNvSpPr/>
          <p:nvPr/>
        </p:nvSpPr>
        <p:spPr>
          <a:xfrm>
            <a:off x="52578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Oval 38"/>
          <p:cNvSpPr/>
          <p:nvPr/>
        </p:nvSpPr>
        <p:spPr>
          <a:xfrm>
            <a:off x="49528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Oval 38"/>
          <p:cNvSpPr/>
          <p:nvPr/>
        </p:nvSpPr>
        <p:spPr>
          <a:xfrm>
            <a:off x="57150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Oval 38"/>
          <p:cNvSpPr/>
          <p:nvPr/>
        </p:nvSpPr>
        <p:spPr>
          <a:xfrm>
            <a:off x="64771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Oval 38"/>
          <p:cNvSpPr/>
          <p:nvPr/>
        </p:nvSpPr>
        <p:spPr>
          <a:xfrm>
            <a:off x="63244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Oval 38"/>
          <p:cNvSpPr/>
          <p:nvPr/>
        </p:nvSpPr>
        <p:spPr>
          <a:xfrm>
            <a:off x="6172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Oval 38"/>
          <p:cNvSpPr/>
          <p:nvPr/>
        </p:nvSpPr>
        <p:spPr>
          <a:xfrm>
            <a:off x="58672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Oval 38"/>
          <p:cNvSpPr/>
          <p:nvPr/>
        </p:nvSpPr>
        <p:spPr>
          <a:xfrm>
            <a:off x="66294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Oval 38"/>
          <p:cNvSpPr/>
          <p:nvPr/>
        </p:nvSpPr>
        <p:spPr>
          <a:xfrm>
            <a:off x="73915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Oval 38"/>
          <p:cNvSpPr/>
          <p:nvPr/>
        </p:nvSpPr>
        <p:spPr>
          <a:xfrm>
            <a:off x="72388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Oval 38"/>
          <p:cNvSpPr/>
          <p:nvPr/>
        </p:nvSpPr>
        <p:spPr>
          <a:xfrm>
            <a:off x="70866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Oval 38"/>
          <p:cNvSpPr/>
          <p:nvPr/>
        </p:nvSpPr>
        <p:spPr>
          <a:xfrm>
            <a:off x="69343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Oval 38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Oval 38"/>
          <p:cNvSpPr/>
          <p:nvPr/>
        </p:nvSpPr>
        <p:spPr>
          <a:xfrm>
            <a:off x="32767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Oval 38"/>
          <p:cNvSpPr/>
          <p:nvPr/>
        </p:nvSpPr>
        <p:spPr>
          <a:xfrm>
            <a:off x="41911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Oval 38"/>
          <p:cNvSpPr/>
          <p:nvPr/>
        </p:nvSpPr>
        <p:spPr>
          <a:xfrm>
            <a:off x="51055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Oval 38"/>
          <p:cNvSpPr/>
          <p:nvPr/>
        </p:nvSpPr>
        <p:spPr>
          <a:xfrm>
            <a:off x="60199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Oval 38"/>
          <p:cNvSpPr/>
          <p:nvPr/>
        </p:nvSpPr>
        <p:spPr>
          <a:xfrm>
            <a:off x="76960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Oval 38"/>
          <p:cNvSpPr/>
          <p:nvPr/>
        </p:nvSpPr>
        <p:spPr>
          <a:xfrm>
            <a:off x="6781680" y="525780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Oval 38"/>
          <p:cNvSpPr/>
          <p:nvPr/>
        </p:nvSpPr>
        <p:spPr>
          <a:xfrm>
            <a:off x="784872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Oval 38"/>
          <p:cNvSpPr/>
          <p:nvPr/>
        </p:nvSpPr>
        <p:spPr>
          <a:xfrm>
            <a:off x="75438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3886200" y="5638680"/>
            <a:ext cx="1371600" cy="1143000"/>
          </a:xfrm>
          <a:prstGeom prst="hexagon">
            <a:avLst>
              <a:gd name="adj" fmla="val 30000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5715000"/>
            <a:ext cx="12189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PPO RICERCA E SPERIMENTAZIONE QUALITA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47242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yPC</dc:creator>
  <dc:description/>
  <dc:language>en-US</dc:language>
  <cp:lastModifiedBy>comune</cp:lastModifiedBy>
  <dcterms:modified xsi:type="dcterms:W3CDTF">2015-03-19T09:41:15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